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C1A5-AFD5-441D-A352-095DA0624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4ECE-FD98-4EB4-BF9E-F6D43D541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F8DD-FFCF-4F45-8547-AB4B1A201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CFF8-1D22-4E22-9ABB-A46920FE4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43D93-32E1-4811-8378-CD0401986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5956F-58A1-494D-98C8-74AC2F2DB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80FCB-CFEE-4A5B-A511-50333BCEB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6F6EE-618B-43B5-BD21-A5FCE29D3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8238F-F082-45EB-A067-A88CDCA64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0C198-01B1-46CA-9E3C-418C85833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C99D2-3857-4539-8476-E27F8355F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6ED5-28FD-4A97-9421-5E644FBCB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FF717-81DC-4119-B85A-695A70D9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E9BB7-F946-4032-B8AC-200FE2EE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F3FD2-5DF4-4155-95D3-002751397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5C0AE-649E-4278-80AA-000FDDD06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7C2DA-FF1B-4D81-902A-5EC02A5B6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D9C5-57FC-4EE8-A62C-1599794C6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AD50-BCC9-40B8-B3FA-365D0368B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6432-9711-48DE-A0FC-34BBA241E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6470-0D18-41B7-AC47-52ADE73D9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ECD7-845F-43F8-9FE1-ED398004D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AD58-7969-488C-A144-1A8FF387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7084-8F8E-4AD2-9CFC-70C5DA64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6E039-6D4D-4C66-AE82-B248789F903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B43EF-5724-4AF1-B7C8-FE2160A2D18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4format.ru/" TargetMode="External"/><Relationship Id="rId2" Type="http://schemas.openxmlformats.org/officeDocument/2006/relationships/hyperlink" Target="http://moy-bereg.ru/" TargetMode="External"/><Relationship Id="rId3" Type="http://schemas.openxmlformats.org/officeDocument/2006/relationships/hyperlink" Target="http://borodina.mrezha.ru/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1066320"/>
            <a:ext cx="71625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420000"/>
                </a:solidFill>
                <a:latin typeface="Times New Roman"/>
              </a:rPr>
              <a:t>Символика в романе Ф.И. Достоевского «Преступление и наказание»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742840" y="3765240"/>
            <a:ext cx="5715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0000"/>
                </a:solidFill>
                <a:latin typeface="Arial"/>
              </a:rPr>
              <a:t>Выполнила: Машкалёва Анастас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0000"/>
                </a:solidFill>
                <a:latin typeface="Arial"/>
              </a:rPr>
              <a:t>342 группа</a:t>
            </a:r>
            <a:r>
              <a:rPr b="0" lang="ru-RU" sz="2800" spc="-1" strike="noStrike">
                <a:solidFill>
                  <a:srgbClr val="66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62520" y="54864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0000"/>
                </a:solidFill>
                <a:latin typeface="Times New Roman"/>
              </a:rPr>
              <a:t>2010 год, Сыктывк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14400" y="3276720"/>
            <a:ext cx="2514600" cy="29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660000"/>
                </a:solidFill>
                <a:latin typeface="Times New Roman"/>
              </a:rPr>
              <a:t>Как выразить невыразимое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Вопросы с которыми мы должны познакомиться: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00"/>
                </a:solidFill>
                <a:latin typeface="Times New Roman"/>
              </a:rPr>
              <a:t>Что такое символ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00"/>
                </a:solidFill>
                <a:latin typeface="Times New Roman"/>
              </a:rPr>
              <a:t>Какие символы вы можете выделить в романе Ф. М. Достоевского </a:t>
            </a:r>
            <a:br>
              <a:rPr sz="3200"/>
            </a:br>
            <a:r>
              <a:rPr b="1" i="1" lang="en-US" sz="3200" spc="-1" strike="noStrike">
                <a:solidFill>
                  <a:srgbClr val="660000"/>
                </a:solidFill>
                <a:latin typeface="Times New Roman"/>
              </a:rPr>
              <a:t>« Преступление и наказание»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00"/>
                </a:solidFill>
                <a:latin typeface="Times New Roman"/>
              </a:rPr>
              <a:t>Какую роль данные символы выполняют в романе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0000"/>
                </a:solidFill>
                <a:latin typeface="Times New Roman"/>
              </a:rPr>
              <a:t>План проведения проекта: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00"/>
                </a:solidFill>
                <a:latin typeface="Times New Roman"/>
              </a:rPr>
              <a:t>1) Знакомство с понятием символ. Общая характеристика символа  в романе. ( 1 час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00"/>
                </a:solidFill>
                <a:latin typeface="Times New Roman"/>
              </a:rPr>
              <a:t>2) Символика красного и желтого цвета в романе.(  1 час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00"/>
                </a:solidFill>
                <a:latin typeface="Times New Roman"/>
              </a:rPr>
              <a:t>3) Символика чисел 4 и 7 в романе. ( 1 час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00"/>
                </a:solidFill>
                <a:latin typeface="Times New Roman"/>
              </a:rPr>
              <a:t>4) Символика фамилий в романе. ( 1час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00"/>
                </a:solidFill>
                <a:latin typeface="Times New Roman"/>
              </a:rPr>
              <a:t>5) Выводы по теме. Работа по группам ( выбор символа и разъяснение его содержания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660000"/>
                </a:solidFill>
                <a:latin typeface="Times New Roman"/>
              </a:rPr>
              <a:t>( 2 час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00"/>
                </a:solidFill>
                <a:latin typeface="Times New Roman"/>
              </a:rPr>
              <a:t>Данный проект рассчитан на 6  час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20000"/>
                </a:solidFill>
                <a:latin typeface="Times New Roman"/>
              </a:rPr>
              <a:t>Информационные ресурсы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Times New Roman"/>
                <a:hlinkClick r:id="rId1"/>
              </a:rPr>
              <a:t>http://www.a4format.ru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Times New Roman"/>
                <a:hlinkClick r:id="rId2"/>
              </a:rPr>
              <a:t>http://moy-bereg.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Times New Roman"/>
                <a:hlinkClick r:id="rId3"/>
              </a:rPr>
              <a:t>http://borodina.mrezha.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тудент</cp:lastModifiedBy>
  <dcterms:modified xsi:type="dcterms:W3CDTF">2010-04-07T05:20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